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36B7-6165-49C6-A24D-75D08F427F32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 November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S/2 Workshop 5, Houston, TX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3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Nov 2000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Flavour Fil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60020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4240" y="104400"/>
            <a:ext cx="87915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prietary item - passed by referenc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2120" y="1069920"/>
            <a:ext cx="865692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1 = ITEM_REFERENCE_PROPRIETARY (’1_12513', #9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2 = ITEM_REF_SOURCE_PROPRIETARY (#903, Zeta Sections for Purlins and Cladding Rails , 1996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3 = ORGANIZATION (‘AYRSHIRE_DAV’, ‘Ayrshire Metal Products (Daventry) Ltd’, ‘Cold formed metal products manufacturer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4 = SECTION_PROFILE(2, ’Zeta',’Cold formed purlin section’, ’Slender', 10, .F.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5 =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TEM_REFERENCE_ASSIGNED (#901, #90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p th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ort - native to neut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ort - neutral to n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Probably the most difficult and demanding task of the whole translator development process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Unlikely to be simple one-to-one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an be subjec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Dependent upon knowledge of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IS/2 neutral data structures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... AND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vendor’s own native data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06440" y="3386160"/>
            <a:ext cx="2205000" cy="264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 aspects of mapping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structures (the template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values (the populated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quired when using a nativ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5040" y="3562200"/>
            <a:ext cx="1693800" cy="21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3720" y="3811680"/>
            <a:ext cx="935280" cy="171108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1711080"/>
              <a:gd name="textAreaBottom" fmla="*/ 1665720 h 1711080"/>
            </a:gdLst>
            <a:ahLst/>
            <a:rect l="textAreaLeft" t="textAreaTop" r="textAreaRight" b="textAreaBottom"/>
            <a:pathLst>
              <a:path w="21600" h="39510">
                <a:moveTo>
                  <a:pt x="3600" y="0"/>
                </a:moveTo>
                <a:arcTo wR="3600" hR="3600" stAng="16200000" swAng="-5400000"/>
                <a:lnTo>
                  <a:pt x="0" y="35910"/>
                </a:lnTo>
                <a:arcTo wR="3600" hR="3600" stAng="10800000" swAng="-5400000"/>
                <a:lnTo>
                  <a:pt x="18000" y="39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6280" y="3792600"/>
            <a:ext cx="969840" cy="1711440"/>
          </a:xfrm>
          <a:custGeom>
            <a:avLst/>
            <a:gdLst>
              <a:gd name="textAreaLeft" fmla="*/ 47160 w 969840"/>
              <a:gd name="textAreaRight" fmla="*/ 922680 w 969840"/>
              <a:gd name="textAreaTop" fmla="*/ 47160 h 1711440"/>
              <a:gd name="textAreaBottom" fmla="*/ 1664280 h 1711440"/>
            </a:gdLst>
            <a:ahLst/>
            <a:rect l="textAreaLeft" t="textAreaTop" r="textAreaRight" b="textAreaBottom"/>
            <a:pathLst>
              <a:path w="21600" h="38111">
                <a:moveTo>
                  <a:pt x="3600" y="0"/>
                </a:moveTo>
                <a:arcTo wR="3600" hR="3600" stAng="16200000" swAng="-5400000"/>
                <a:lnTo>
                  <a:pt x="0" y="34511"/>
                </a:lnTo>
                <a:arcTo wR="3600" hR="3600" stAng="10800000" swAng="-5400000"/>
                <a:lnTo>
                  <a:pt x="18000" y="38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17760" y="3792600"/>
            <a:ext cx="987480" cy="17114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711440"/>
              <a:gd name="textAreaBottom" fmla="*/ 1663560 h 1711440"/>
            </a:gdLst>
            <a:ahLst/>
            <a:rect l="textAreaLeft" t="textAreaTop" r="textAreaRight" b="textAreaBottom"/>
            <a:pathLst>
              <a:path w="21600" h="37430">
                <a:moveTo>
                  <a:pt x="3600" y="0"/>
                </a:moveTo>
                <a:arcTo wR="3600" hR="3600" stAng="16200000" swAng="-5400000"/>
                <a:lnTo>
                  <a:pt x="0" y="33830"/>
                </a:lnTo>
                <a:arcTo wR="3600" hR="3600" stAng="10800000" swAng="-5400000"/>
                <a:lnTo>
                  <a:pt x="18000" y="37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730600" y="3338640"/>
            <a:ext cx="3485880" cy="2654280"/>
            <a:chOff x="2730600" y="3338640"/>
            <a:chExt cx="3485880" cy="2654280"/>
          </a:xfrm>
        </p:grpSpPr>
        <p:sp>
          <p:nvSpPr>
            <p:cNvPr id="257" name=""/>
            <p:cNvSpPr/>
            <p:nvPr/>
          </p:nvSpPr>
          <p:spPr>
            <a:xfrm>
              <a:off x="2730600" y="3338640"/>
              <a:ext cx="3485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36X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- neutral (flavou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6x16½W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- native (databa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74960" y="4178160"/>
              <a:ext cx="1130400" cy="91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duct Identifiers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 classes of product item are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ndard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riet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br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tion exchanged by being “passed-by-reference” rather than being “passed by attribute value”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standard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ssigning Item Refere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92" idx="0"/>
          </p:cNvCxnSpPr>
          <p:nvPr/>
        </p:nvCxnSpPr>
        <p:spPr>
          <a:xfrm>
            <a:off x="1778040" y="1636560"/>
            <a:ext cx="2160" cy="805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" name=""/>
          <p:cNvSpPr/>
          <p:nvPr/>
        </p:nvSpPr>
        <p:spPr>
          <a:xfrm>
            <a:off x="711000" y="197316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73840" y="1197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6680" y="1197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13082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5" idx="2"/>
            <a:endCxn id="91" idx="3"/>
          </p:cNvCxnSpPr>
          <p:nvPr/>
        </p:nvCxnSpPr>
        <p:spPr>
          <a:xfrm flipH="1">
            <a:off x="3323880" y="1401840"/>
            <a:ext cx="24249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" name=""/>
          <p:cNvSpPr/>
          <p:nvPr/>
        </p:nvSpPr>
        <p:spPr>
          <a:xfrm>
            <a:off x="3190680" y="3265560"/>
            <a:ext cx="104184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8280" y="33447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74840" y="3105000"/>
            <a:ext cx="0" cy="33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70160" y="3436920"/>
            <a:ext cx="70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92200" y="30942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38240" y="495612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16120" y="505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20600" y="402264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98480" y="41241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7" idx="2"/>
            <a:endCxn id="105" idx="2"/>
          </p:cNvCxnSpPr>
          <p:nvPr/>
        </p:nvCxnSpPr>
        <p:spPr>
          <a:xfrm flipH="1" rot="16200000">
            <a:off x="894960" y="3443760"/>
            <a:ext cx="111204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8" name=""/>
          <p:cNvCxnSpPr>
            <a:stCxn id="107" idx="2"/>
            <a:endCxn id="103" idx="2"/>
          </p:cNvCxnSpPr>
          <p:nvPr/>
        </p:nvCxnSpPr>
        <p:spPr>
          <a:xfrm flipH="1" rot="16200000">
            <a:off x="438120" y="3901680"/>
            <a:ext cx="2045520" cy="455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stCxn id="110" idx="2"/>
            <a:endCxn id="111" idx="2"/>
          </p:cNvCxnSpPr>
          <p:nvPr/>
        </p:nvCxnSpPr>
        <p:spPr>
          <a:xfrm flipH="1" rot="16200000">
            <a:off x="5383800" y="3248640"/>
            <a:ext cx="811800" cy="559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110" idx="2"/>
            <a:endCxn id="113" idx="2"/>
          </p:cNvCxnSpPr>
          <p:nvPr/>
        </p:nvCxnSpPr>
        <p:spPr>
          <a:xfrm flipH="1" rot="16200000">
            <a:off x="4890960" y="3740760"/>
            <a:ext cx="1791360" cy="5547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14" name=""/>
          <p:cNvSpPr/>
          <p:nvPr/>
        </p:nvSpPr>
        <p:spPr>
          <a:xfrm>
            <a:off x="5229360" y="2382840"/>
            <a:ext cx="21301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43480" y="297972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2120" y="266868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85880" y="2455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96388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32360" y="370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85040" y="341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04" idx="3"/>
            <a:endCxn id="119" idx="2"/>
          </p:cNvCxnSpPr>
          <p:nvPr/>
        </p:nvCxnSpPr>
        <p:spPr>
          <a:xfrm flipV="1">
            <a:off x="3827520" y="4379400"/>
            <a:ext cx="2250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02" idx="3"/>
            <a:endCxn id="121" idx="2"/>
          </p:cNvCxnSpPr>
          <p:nvPr/>
        </p:nvCxnSpPr>
        <p:spPr>
          <a:xfrm flipV="1">
            <a:off x="3844800" y="5317920"/>
            <a:ext cx="22327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22" name=""/>
          <p:cNvGrpSpPr/>
          <p:nvPr/>
        </p:nvGrpSpPr>
        <p:grpSpPr>
          <a:xfrm>
            <a:off x="6097680" y="3738600"/>
            <a:ext cx="2229480" cy="703800"/>
            <a:chOff x="6097680" y="3738600"/>
            <a:chExt cx="2229480" cy="703800"/>
          </a:xfrm>
        </p:grpSpPr>
        <p:sp>
          <p:nvSpPr>
            <p:cNvPr id="123" name=""/>
            <p:cNvSpPr/>
            <p:nvPr/>
          </p:nvSpPr>
          <p:spPr>
            <a:xfrm>
              <a:off x="6319080" y="373860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_stand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97680" y="3840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6091200" y="42861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3000" y="4718160"/>
            <a:ext cx="2229120" cy="703800"/>
            <a:chOff x="6093000" y="4718160"/>
            <a:chExt cx="2229120" cy="703800"/>
          </a:xfrm>
        </p:grpSpPr>
        <p:sp>
          <p:nvSpPr>
            <p:cNvPr id="125" name=""/>
            <p:cNvSpPr/>
            <p:nvPr/>
          </p:nvSpPr>
          <p:spPr>
            <a:xfrm>
              <a:off x="6314040" y="471816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_propriet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93000" y="4819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091200" y="52243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39280" y="39830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79240" y="4948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2360" y="10476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06400" y="116856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9" idx="3"/>
            <a:endCxn id="131" idx="2"/>
          </p:cNvCxnSpPr>
          <p:nvPr/>
        </p:nvCxnSpPr>
        <p:spPr>
          <a:xfrm flipV="1">
            <a:off x="2712960" y="1523160"/>
            <a:ext cx="3402720" cy="10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6352200" y="115092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29360" y="14302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86920" y="1149480"/>
            <a:ext cx="2998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INV) standar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25480" y="346536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27480" y="3544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07320" y="1892160"/>
            <a:ext cx="0" cy="68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33760" y="3637080"/>
            <a:ext cx="28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3040" y="2166840"/>
            <a:ext cx="32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ization_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92400" y="2565360"/>
            <a:ext cx="4707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26280" y="1906560"/>
            <a:ext cx="0" cy="171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56160" y="323676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_of_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05560" y="402912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38320" y="4160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79560" y="402912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48160" y="4041720"/>
            <a:ext cx="152352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7" idx="0"/>
            <a:endCxn id="148" idx="6"/>
          </p:cNvCxnSpPr>
          <p:nvPr/>
        </p:nvCxnSpPr>
        <p:spPr>
          <a:xfrm rot="5400000">
            <a:off x="5893560" y="2473200"/>
            <a:ext cx="293040" cy="3252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43" idx="6"/>
            <a:endCxn id="145" idx="1"/>
          </p:cNvCxnSpPr>
          <p:nvPr/>
        </p:nvCxnSpPr>
        <p:spPr>
          <a:xfrm>
            <a:off x="2205000" y="4237200"/>
            <a:ext cx="41184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50" name=""/>
          <p:cNvGrpSpPr/>
          <p:nvPr/>
        </p:nvGrpSpPr>
        <p:grpSpPr>
          <a:xfrm>
            <a:off x="1104840" y="3457440"/>
            <a:ext cx="1371600" cy="390240"/>
            <a:chOff x="1104840" y="3457440"/>
            <a:chExt cx="1371600" cy="390240"/>
          </a:xfrm>
        </p:grpSpPr>
        <p:sp>
          <p:nvSpPr>
            <p:cNvPr id="151" name=""/>
            <p:cNvSpPr/>
            <p:nvPr/>
          </p:nvSpPr>
          <p:spPr>
            <a:xfrm>
              <a:off x="1104840" y="345744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24160" y="358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65400" y="34574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4" name=""/>
          <p:cNvCxnSpPr>
            <a:stCxn id="152" idx="6"/>
            <a:endCxn id="134" idx="1"/>
          </p:cNvCxnSpPr>
          <p:nvPr/>
        </p:nvCxnSpPr>
        <p:spPr>
          <a:xfrm flipV="1">
            <a:off x="2490480" y="3663720"/>
            <a:ext cx="10036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7666200" y="1906560"/>
            <a:ext cx="0" cy="203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00440" y="382896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ar_of_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25480" y="463536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27480" y="4714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25840" y="4807080"/>
            <a:ext cx="3684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104840" y="4627440"/>
            <a:ext cx="1371600" cy="390240"/>
            <a:chOff x="1104840" y="4627440"/>
            <a:chExt cx="1371600" cy="390240"/>
          </a:xfrm>
        </p:grpSpPr>
        <p:sp>
          <p:nvSpPr>
            <p:cNvPr id="161" name=""/>
            <p:cNvSpPr/>
            <p:nvPr/>
          </p:nvSpPr>
          <p:spPr>
            <a:xfrm>
              <a:off x="1104840" y="462744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24160" y="47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65400" y="46274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4" name=""/>
          <p:cNvCxnSpPr>
            <a:stCxn id="162" idx="6"/>
            <a:endCxn id="157" idx="1"/>
          </p:cNvCxnSpPr>
          <p:nvPr/>
        </p:nvCxnSpPr>
        <p:spPr>
          <a:xfrm flipV="1">
            <a:off x="2490480" y="4833720"/>
            <a:ext cx="10036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5" name=""/>
          <p:cNvSpPr/>
          <p:nvPr/>
        </p:nvSpPr>
        <p:spPr>
          <a:xfrm>
            <a:off x="4600440" y="440676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sion_of_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93160" y="1906560"/>
            <a:ext cx="0" cy="288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13080" y="415116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294920" y="2322360"/>
            <a:ext cx="897480" cy="1108080"/>
            <a:chOff x="1294920" y="2322360"/>
            <a:chExt cx="897480" cy="1108080"/>
          </a:xfrm>
        </p:grpSpPr>
        <p:sp>
          <p:nvSpPr>
            <p:cNvPr id="168" name=""/>
            <p:cNvSpPr/>
            <p:nvPr/>
          </p:nvSpPr>
          <p:spPr>
            <a:xfrm>
              <a:off x="2004840" y="24526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94920" y="232236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66720" y="32781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1641600" y="2738160"/>
              <a:ext cx="0" cy="525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andard I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65040" y="99360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3" idx="3"/>
            <a:endCxn id="175" idx="2"/>
          </p:cNvCxnSpPr>
          <p:nvPr/>
        </p:nvCxnSpPr>
        <p:spPr>
          <a:xfrm flipV="1">
            <a:off x="2271240" y="1348560"/>
            <a:ext cx="3614040" cy="10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6122160" y="97632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99320" y="12556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93360" y="973080"/>
            <a:ext cx="3201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INV) proprietary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60520" y="450684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4586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76920" y="1717560"/>
            <a:ext cx="0" cy="90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68800" y="4678200"/>
            <a:ext cx="28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09920" y="229248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ufacturers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52240" y="2401920"/>
            <a:ext cx="1569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62520" y="25430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68800" y="2635200"/>
            <a:ext cx="251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96240" y="1731960"/>
            <a:ext cx="0" cy="296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90840" y="427824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ufacturers_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40600" y="507060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73360" y="5202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14600" y="5070600"/>
            <a:ext cx="144360" cy="39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82840" y="5083200"/>
            <a:ext cx="152352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3" idx="0"/>
            <a:endCxn id="194" idx="6"/>
          </p:cNvCxnSpPr>
          <p:nvPr/>
        </p:nvCxnSpPr>
        <p:spPr>
          <a:xfrm rot="5400000">
            <a:off x="5038200" y="2889000"/>
            <a:ext cx="1508760" cy="328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89" idx="6"/>
            <a:endCxn id="191" idx="1"/>
          </p:cNvCxnSpPr>
          <p:nvPr/>
        </p:nvCxnSpPr>
        <p:spPr>
          <a:xfrm>
            <a:off x="1940040" y="5277960"/>
            <a:ext cx="4118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96" name=""/>
          <p:cNvGrpSpPr/>
          <p:nvPr/>
        </p:nvGrpSpPr>
        <p:grpSpPr>
          <a:xfrm>
            <a:off x="839880" y="4498920"/>
            <a:ext cx="1371600" cy="390240"/>
            <a:chOff x="839880" y="4498920"/>
            <a:chExt cx="1371600" cy="390240"/>
          </a:xfrm>
        </p:grpSpPr>
        <p:sp>
          <p:nvSpPr>
            <p:cNvPr id="197" name=""/>
            <p:cNvSpPr/>
            <p:nvPr/>
          </p:nvSpPr>
          <p:spPr>
            <a:xfrm>
              <a:off x="839880" y="449892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9200" y="4630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00440" y="4498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0" name=""/>
          <p:cNvCxnSpPr>
            <a:stCxn id="198" idx="6"/>
            <a:endCxn id="178" idx="1"/>
          </p:cNvCxnSpPr>
          <p:nvPr/>
        </p:nvCxnSpPr>
        <p:spPr>
          <a:xfrm flipV="1">
            <a:off x="2225160" y="4704480"/>
            <a:ext cx="10036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7435800" y="1731960"/>
            <a:ext cx="0" cy="203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35480" y="487044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ar_of_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60520" y="567684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5756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60880" y="5848200"/>
            <a:ext cx="3684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39880" y="5668920"/>
            <a:ext cx="1371600" cy="390240"/>
            <a:chOff x="839880" y="5668920"/>
            <a:chExt cx="1371600" cy="390240"/>
          </a:xfrm>
        </p:grpSpPr>
        <p:sp>
          <p:nvSpPr>
            <p:cNvPr id="207" name=""/>
            <p:cNvSpPr/>
            <p:nvPr/>
          </p:nvSpPr>
          <p:spPr>
            <a:xfrm>
              <a:off x="839880" y="566892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59200" y="5800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00440" y="5668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0" name=""/>
          <p:cNvCxnSpPr>
            <a:stCxn id="208" idx="6"/>
            <a:endCxn id="203" idx="1"/>
          </p:cNvCxnSpPr>
          <p:nvPr/>
        </p:nvCxnSpPr>
        <p:spPr>
          <a:xfrm flipV="1">
            <a:off x="2225160" y="5874480"/>
            <a:ext cx="10036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1" name=""/>
          <p:cNvSpPr/>
          <p:nvPr/>
        </p:nvSpPr>
        <p:spPr>
          <a:xfrm>
            <a:off x="4335480" y="544824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sion_of_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62760" y="1731960"/>
            <a:ext cx="0" cy="4119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3480" y="2386080"/>
            <a:ext cx="104184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65200" y="25225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4640" y="302904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69880" y="369900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48120" y="51926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65200" y="31226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43000" y="382104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183" idx="1"/>
            <a:endCxn id="214" idx="6"/>
          </p:cNvCxnSpPr>
          <p:nvPr/>
        </p:nvCxnSpPr>
        <p:spPr>
          <a:xfrm flipH="1">
            <a:off x="1666440" y="2614680"/>
            <a:ext cx="658080" cy="216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20" name=""/>
          <p:cNvSpPr/>
          <p:nvPr/>
        </p:nvSpPr>
        <p:spPr>
          <a:xfrm>
            <a:off x="1738800" y="22464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646280" y="2820600"/>
            <a:ext cx="1009440" cy="405360"/>
            <a:chOff x="1646280" y="2820600"/>
            <a:chExt cx="1009440" cy="405360"/>
          </a:xfrm>
        </p:grpSpPr>
        <p:sp>
          <p:nvSpPr>
            <p:cNvPr id="222" name=""/>
            <p:cNvSpPr/>
            <p:nvPr/>
          </p:nvSpPr>
          <p:spPr>
            <a:xfrm>
              <a:off x="1646280" y="3225960"/>
              <a:ext cx="100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2655720" y="2820600"/>
              <a:ext cx="0" cy="40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252520" y="2804760"/>
            <a:ext cx="1298520" cy="1110960"/>
            <a:chOff x="2252520" y="2804760"/>
            <a:chExt cx="1298520" cy="1110960"/>
          </a:xfrm>
        </p:grpSpPr>
        <p:sp>
          <p:nvSpPr>
            <p:cNvPr id="225" name=""/>
            <p:cNvSpPr/>
            <p:nvPr/>
          </p:nvSpPr>
          <p:spPr>
            <a:xfrm>
              <a:off x="2252520" y="3915720"/>
              <a:ext cx="129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551040" y="2804760"/>
              <a:ext cx="0" cy="111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712160" y="2838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35240" y="35496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57440" y="4336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731960" y="4081320"/>
            <a:ext cx="0" cy="26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36800" y="4336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111320" y="3427200"/>
            <a:ext cx="0" cy="89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4624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06520" y="2792160"/>
            <a:ext cx="0" cy="19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6520" y="4702320"/>
            <a:ext cx="158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prietary I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04920" y="450720"/>
            <a:ext cx="84582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O-10303-2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AD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_DESCRIPTION (('STEP US FLAVOUR'), '1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_NAME ('Step US Flavour', '11-05-1998', (‘’), (‘’), ‘’,’’,’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_SCHEMA (('STRUCTURAL_FRAME_SCHEMA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00 = GROUP (‘US Flavour list’, ‘List of item references in accordance with ASTM standards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01 = FLAVOUR (#3000, (#1, #3, ….. , #2354, #2355)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 = ITEM_REFERENCE_STANDARD (‘W1100X424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 = ITEM_REF_SOURCE_STANDARD (‘ASTM’, ‘ASTM_A6M’, 1994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 = ITEM_REFERENCE_STANDARD (‘W1100X369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4 = ITEM_REFERENCE_STANDARD (‘W1100X333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5 = ITEM_REFERENCE_STANDARD (‘W1100X295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354 = ITEM_REFERENCE_STANDARD (‘M30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355 = ITEM_REFERENCE_STANDARD (‘M36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-ISO-10303-21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0" y="-50760"/>
            <a:ext cx="343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hysical File (extra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19240" y="976320"/>
            <a:ext cx="865476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1 = SECTION_PROFILE_I_TYPE (1, 'W14x16x500', 'Wide flange beam to ASTM', 'Plastic', 10, .F., #202, #203, #204, #205, #206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2 = POSITIVE_LENGTH_MEASURE_WITH_UNIT (POSITIVE_LENGTH_MEASURE(498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3 = POSITIVE_ LENGTH_MEASURE_WITH_UNIT (POSITIVE_LENGTH_MEASURE(432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4 = POSITIVE_ LENGTH_MEASURE_WITH_UNIT (POSITIVE_LENGTH_MEASURE(55.6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5 = POSITIVE_ LENGTH_MEASURE_WITH_UNIT (POSITIVE_LENGTH_MEASURE(88.9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6 = POSITIVE_ LENGTH_MEASURE_WITH_UNIT (POSITIVE_LENGTH_MEASURE(280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1021 = (LENGTH_UNIT()NAMED_UNIT(*)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440" y="101520"/>
            <a:ext cx="874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ndard item - passed by attribute value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2680" y="976320"/>
            <a:ext cx="8961480" cy="50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#201 = SECTION_PROFILE_I_TYPE (1, 'W14x16x500', 'Wide flange beam to ASTM', 'Plastic', $, #202, #203, #204, #205, #206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5 = SECTION_PROPERTIES (#201, $, #216, #217, #218, $, $, $, $, $, $, $, #219, #220, $, $, $, $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6 = INERTIA_MEASURE_WITH_UNIT (INERTIA_MEASURE(342200.0), #115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7 = INERTIA_MEASURE_WITH_UNIT (INERTIA_MEASURE(120000.0), #115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8 = AREA_MEASURE_WITH_UNIT (AREA_MEASURE(950.0), #116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9 = MODULUS_MEASURE_WITH_UNIT (MODULUS_MEASURE(17180.0), #1157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20 = MODULUS_MEASURE_WITH_UNIT (MODULUS_MEASURE(8558.0), #1157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149 = (LENGTH_UNIT()NAMED_UNIT(*)SI_UNIT(.CENT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150 = DERIVED_UNIT_ELEMENT (#1149, 4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151 = INERTIA_UNIT ((#115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440" y="101520"/>
            <a:ext cx="874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ndard item - passed by attribute value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7760" y="976320"/>
            <a:ext cx="8961480" cy="14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1 = ITEM_REFERENCE_STANDARD ('W1100X424', #3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2 = ITEM_REF_SOURCE_STANDARD('ASTM', 'ASTM_A6M', 1994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3 = SECTION_PROFILE (2, 'W', 'Wide flange beam to ASTM’, 'Plastic', $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4 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EM_REFERENCE_ASSIGNED (#301, #303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6040" y="114480"/>
            <a:ext cx="806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andard item - passed by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14:53:59Z</dcterms:created>
  <dc:creator>Andrew Crowley</dc:creator>
  <dc:description/>
  <dc:language>en-US</dc:language>
  <cp:lastModifiedBy>Andrew Crowley</cp:lastModifiedBy>
  <dcterms:modified xsi:type="dcterms:W3CDTF">2000-11-13T20:43:20Z</dcterms:modified>
  <cp:revision>4</cp:revision>
  <dc:subject/>
  <dc:title>CIS/2 Workshop 5, Houston, TX 13th Nov 2000</dc:title>
</cp:coreProperties>
</file>